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C67-DB2C-441D-A69E-AF10386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5B5-319A-4F43-8935-3D0FBFD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336-9609-4B30-A19A-3DC9F35F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47D-19A1-4B6B-AA00-973E74A7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703-DCCA-4C33-9323-CC62353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C87-5980-4718-89FC-F0544FB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412-37FE-4122-9B7E-D6DD5B5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E9C-247D-4C16-9D0E-D9417BB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028-3F9C-48DA-AE13-28F77D58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F08-9E04-4397-8173-75C96AF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6C4-DB6F-4442-BD9E-08716D7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7F8-F3F9-4AB0-9AD4-6DB4BEE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ED8BE-FADE-4099-AF5E-926FB058C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028DD-8061-4F7F-B419-8BD3800E8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type of daughter cells does meiosis produce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alibri"/>
              </a:rPr>
              <a:t>What is the function of meiosis?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f a beavercell has 40 chromosomes before it divides, how many chromosomes will a daughter cell have after mei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9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ow has 60 chromosomes.  A scientist observes a cow cell go throug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daughter cells will the scientist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did the parent cell ha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will a daughter cell hav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3.9 Independent Pract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do we call a tightly coiled piece of DNA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Before a cell divides, what do we call the original cell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After a cell divides, what do we call the two new cells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f a fruit fly has 8 chromosomes before it divides, how many chromosomes will a daughter cell have after mitosi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hat type of daughter cells does mitosis produce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hat is the function of mitosi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3.9 Meiosis Class Note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eiosis produces 4 daughter cells which have only half the chromosomes as their parent cell.  These daughter cells are an organism’s sex cells (sperm and eggs)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How many daughter cells does meiosis produ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Are the daughter cells produced in meiosis identical to their parent c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What type of daughter cells does meiosis produ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The purpose of meiosis is to allow an organism to reproduce sexually and to allow genetic variation.  Genetic variation means that organisms in a population have differences in their DNA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1. What is the purpose of meios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2. What is “the differences in DNA between cells and organisms” called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at does meiosis produce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08:59Z</dcterms:created>
  <dc:creator>Caroline Roth</dc:creator>
  <dc:description/>
  <dc:language>en-US</dc:language>
  <cp:lastModifiedBy>Caroline Roth</cp:lastModifiedBy>
  <dcterms:modified xsi:type="dcterms:W3CDTF">2011-05-24T01:38:02Z</dcterms:modified>
  <cp:revision>4</cp:revision>
  <dc:subject/>
  <dc:title>Bellringer</dc:title>
</cp:coreProperties>
</file>